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51AC-3382-469D-8171-3BDA63321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465A-04AE-416D-96CB-2F0C5D38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6A7A-DA13-4615-B80E-C2A7ECBA2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E7BB-43F7-45A9-9CB5-CDAF5A9B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186E-CE7E-446A-AB41-10F9ECFA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68A2-95CD-482C-8C66-16B55404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B51B-56C3-4C72-BCF0-B681EB51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158C-3E51-4D8B-BBBC-225B7962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546E-8054-4B2A-A504-517C3CBE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B7D5-FEF5-4029-AE3B-B72F18F0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1B3A-D1E9-4BAA-9CF5-D4DD78FE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526F-DD0D-4957-A4A9-67DECC0C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7A48-90B1-48B8-9CE2-E0526F9C36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datbázis kezelé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nebolt mintapél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ekérdezések létrehozás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éld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yen CD-k kaphatók a boltban jelenle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zükséges lépése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Új lekérdezés objektum megnyit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ly táblák, mely mezőire lesz szüksé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yen feltételeket kell alkalmaz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teni a kész lekérdezé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jd futatn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ilyen CD-k kaphatók a boltban jelenleg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tbázis-ablak lekérdezések nézetében új lekérdez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ázslók vagy a tervező nézet, válasszuk az utóbb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juk meg a szerepeltetni kívánt táblákat, hasonlóan, mint a kapcsolatokná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kérdés megválaszolásához a „Termékek” táblára lesz szüksé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ilyen CD-k kaphatók a boltban jelenleg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ervező nézet ablaka két részből á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lső részben a kiválasztott táblá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alsó rész tervező rácsán végezzük el a tényleges munká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ezők kiválasztás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ervezőrács mező sorába kattintva, legördülő listából kiválasztjuk ő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gy a felső részből egérrel behúzzuk ők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ilyen CD-k kaphatók a boltban jelenleg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gjelenítés sorban található kis négyzetek kipipálásával eldöntjük, hogy melyek adatait kívánjuk ténylegesen látni a lekérdezésb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átra van még a feltételek megad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édia mezőben a CD értéknek kell áll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ly könyvek kölcsönzési határideje járt le, és azok melyik olvasónál találhatók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feltételek bevite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ifejezés szerkesztő használatáv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a a feltételek sor egy cellájára lépünk, akkor az ikonsor jobb oldalán egy ikon jelenik meg amivel el tudjuk indít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szerkesztés után mentsük el a lekérdezést „A jelenleg kapható CD-k” né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QL nézetben megnézhetjük a háttérben megbúvó sql lekérdezé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ilyen CD-k kaphatók a boltban jelenleg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69472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ekérdezése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Készítsük el az előzőhöz hasonlóan kazettákra,DVD-kre és bakelitekre is a megfelelő lekérdezések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zámítások, összegzések a lekérdezésekb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Paraméterek használata a lekérdezésekb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araméterek használata a lekérdezésekbe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megoldás egyszer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tervezőrácsban a témakör mező feltételek sorában paramétert fogunk megad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paraméter jelzése [ megjelenítendő szöveg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Példa: Egy adott előadónak mely CD-i kaphatóak?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Feltétel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lőadó mező: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like [Keresett előadó?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édia mező: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= ‘CD’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Űrlapok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egsokoldalúbban használható eszközö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tok bevitelére, módosítására, megtekintésére, nyomtatásá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etőség van a Windows-környezetben megszokott eszközök használatá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zínek, betűtípusok, árnyékolások, méretezések változtatásá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gyszerű űrlap létrehozása, használat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észítsünk űrlapot az olvasók tábla számára, megkönnyítve a bevite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tbázis ablakban válasszuk az „Űrlap” objektum típust, majd válasszuk az „új” gomb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álaszthatunk a tervező nézet, illetve a varázslók közö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felad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észítsünk egy egyszerű zeneboltot működtető rendsz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következő táblákra lesz szükségün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ék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ásárl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adás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tegóriá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diatíp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arázslók használat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éhány kérdésre válaszolva eljutunk a kész űrlapho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juk meg, hogy melyik tábla lesz az űrlap alap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övetkező lépésben el kell dönteni, hogy mely mezők szerepeljenek az űrlap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önteni kell az űrlap szerkezetérő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d a stílust kell meghatározn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égül adjuk meg az űrlap címé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Űrlap tervének egyszerű módosítás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kész űrlapunkat három nézetben tekinthetjük me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vez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Űrl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tl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átalakításhoz válasszuk a tervező nézet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Űrlap tervének egyszerű módosítás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űrlap több szakaszból á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Űrlapfej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adatok megjelenítésekor a fejléc csak egyszer, az ablak tetején jelenik me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örz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z tartalmazza a tábla mezőit, a törzs annyiszor ismétlődik meg ahány rekord van a tábláb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Űrlapláblé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ablak alján, egyszer tekinthető me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Oldalfejléc, oldalláblé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Csak nyomtatáskor jelenek meg (pl. oldalszámozás)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84836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Űrlap tervének egyszerű módosítás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zek a szakaszok tartalmazzák az űrlapok lelkét, a vezérlőeleme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zgassuk, méretezzük át nekünk tetszőnek,hogy kényelmesen használhassuk adatbevitel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Űrlap haladó tervezé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50560" y="1600200"/>
            <a:ext cx="66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egédeszközö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Objektumkijelölő ikon: kijelöléshez, áthelyezéshez, méretezéshez és szerkesztéshez használju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ezérlőelem varázsló ikon: bekapcsolhatjuk vele a varázslót, mely után, ha olyan vezérlőre kattintunk, melyhez van varázsló akkor azt elinditj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71640" y="3789360"/>
            <a:ext cx="48420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Űrlap haladó tervezé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gédeszközö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viteli mező: szövegből,számokból és szimbólumokból álló adatokat jelenít m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lirat: leíró szöveget, pl. címet, képfeliratot, jelenít m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ép: nem szerkeszthető, módosítható kép beilleszt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lölő négyzet: egy „pipa” révén jelzi, hogy egy helyzet igaz vagy ham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vábbi elemek leírása TK 4.1.3.1 fejez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26920" y="3429000"/>
            <a:ext cx="432000" cy="409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55640" y="2205000"/>
            <a:ext cx="576360" cy="390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826920" y="4221000"/>
            <a:ext cx="505080" cy="444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826920" y="5229360"/>
            <a:ext cx="439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Űrlap haladó tervezé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ezérlő elemek tulajdonságokkal rendelkeznek, a fő csoporto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ttulajdonság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rendezés tulajdonság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eménytulajdonság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yéb tulajdonság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Űrlap módosítása – kombi lista készítés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684072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Űrlap módosítása – kombi lista készítés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05636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z adatmodell diagra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058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Űrlap módosítása – kombi lista készítés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84072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Űrlap módosítása – kombi lista készítés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91344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Űrlap módosítása – kombi lista készítés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6978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Űrlap módosítása – kombi lista készítés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676944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Űrlap módosítása – kombi lista készítés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698508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formális leírá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ásárló(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zonosít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Vezetéknév,Keresztnév, Telefon,Város,Utcaházszám,Pénztárc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ékek(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rmékazonosít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éd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Előadó, Albumcíme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Kategór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Játékidő,Á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adások(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zámlaazonosít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Vásárlóazonosít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ermékazonosít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Vásárlásdátum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tegóriák(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Kategóriaazonosít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Megnevezé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diatípus(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éd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z egyes táblák mezőinek tulajdonságai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3971880"/>
        </p:xfrm>
        <a:graphic>
          <a:graphicData uri="http://schemas.openxmlformats.org/drawingml/2006/table">
            <a:tbl>
              <a:tblPr/>
              <a:tblGrid>
                <a:gridCol w="2602080"/>
                <a:gridCol w="1512720"/>
                <a:gridCol w="1728720"/>
                <a:gridCol w="2386080"/>
              </a:tblGrid>
              <a:tr h="6620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adáso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zőné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íp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ér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mátu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ámlaazonosít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öve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ásárlóazonosít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öve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mékazonosít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öve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ásárlásdátu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átu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övid dátu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z egyes táblák mezőinek tulajdonságai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147160" cy="1541520"/>
        </p:xfrm>
        <a:graphic>
          <a:graphicData uri="http://schemas.openxmlformats.org/drawingml/2006/table">
            <a:tbl>
              <a:tblPr/>
              <a:tblGrid>
                <a:gridCol w="2036520"/>
                <a:gridCol w="2036880"/>
                <a:gridCol w="2036880"/>
                <a:gridCol w="2036880"/>
              </a:tblGrid>
              <a:tr h="514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édiatíp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zőné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íp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ér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mátu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éd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öve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95280" y="4005360"/>
          <a:ext cx="8291520" cy="2120760"/>
        </p:xfrm>
        <a:graphic>
          <a:graphicData uri="http://schemas.openxmlformats.org/drawingml/2006/table">
            <a:tbl>
              <a:tblPr/>
              <a:tblGrid>
                <a:gridCol w="2952720"/>
                <a:gridCol w="1800360"/>
                <a:gridCol w="1465200"/>
                <a:gridCol w="2073240"/>
              </a:tblGrid>
              <a:tr h="530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tegóriá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zőné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íp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ér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mátu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tegóriaazonosít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öve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gnevezé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öve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z egyes táblák mezőinek tulajdonságai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600" cy="4657680"/>
        </p:xfrm>
        <a:graphic>
          <a:graphicData uri="http://schemas.openxmlformats.org/drawingml/2006/table">
            <a:tbl>
              <a:tblPr/>
              <a:tblGrid>
                <a:gridCol w="3035160"/>
                <a:gridCol w="1727280"/>
                <a:gridCol w="1409760"/>
                <a:gridCol w="2057400"/>
              </a:tblGrid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méke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zőné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ípu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ér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mát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mékazonosít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öv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öv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őad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öv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bumcí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öv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tegór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öv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átékid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á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és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Á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énzn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z egyes táblák mezőinek tulajdonságai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229600" cy="4657680"/>
        </p:xfrm>
        <a:graphic>
          <a:graphicData uri="http://schemas.openxmlformats.org/drawingml/2006/table">
            <a:tbl>
              <a:tblPr/>
              <a:tblGrid>
                <a:gridCol w="2530440"/>
                <a:gridCol w="2016000"/>
                <a:gridCol w="1297080"/>
                <a:gridCol w="2386080"/>
              </a:tblGrid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ásárl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zőné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ípu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ér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mát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zonosít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öv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zetékné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öv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resztné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öv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lef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öv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\(90") "000\-0009;0;#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á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öv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tcaházszá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öv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énztár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énzn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z adatfeldolgozás alapeszköz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ekérdez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z végeredményben egy egyszerű kérdés, mint pl. : „Melyik előadó CD –i a legnépszerűbbek?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keletkező rekordok összessége az eredményhalmaz, mely a lekérdezés minden futtatásakor automatikusan frissü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07:59:17Z</dcterms:created>
  <dc:creator>Nagymáté Péter</dc:creator>
  <dc:description/>
  <dc:language>en-US</dc:language>
  <cp:lastModifiedBy>Nagymáté Péter</cp:lastModifiedBy>
  <dcterms:modified xsi:type="dcterms:W3CDTF">2004-04-20T10:24:13Z</dcterms:modified>
  <cp:revision>11</cp:revision>
  <dc:subject/>
  <dc:title>Adatbázis kezelés</dc:title>
</cp:coreProperties>
</file>